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008813" cy="9374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37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971880" y="-36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61720" y="703080"/>
            <a:ext cx="4686120" cy="351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34560" y="4451400"/>
            <a:ext cx="514044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890388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971880" y="8903880"/>
            <a:ext cx="3038400" cy="4683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2FD6-49B8-4B0B-9D6B-5DDCB3900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B324-4018-461E-AB34-31CC60AA6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4560" y="4451400"/>
            <a:ext cx="5140440" cy="42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C16E-4A12-4BD8-8B4C-25BB2B26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FE13-B360-4D63-8455-7A91ECF8C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204-1C7A-42DC-A9CB-D799457D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07A6-B6B4-4C95-B092-4C1D48377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D80C-1FEE-4E22-99D7-2663B82A6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9DC5-DED0-4492-B555-8EDAD5713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BC80-789F-45DD-998E-7E28BD62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1FD-12FB-4B84-9D16-16395EA838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0C32-1F4B-4419-8598-5B63D47FC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A1D6-3485-4895-BC9A-EE1C4873E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70F9-9A61-4707-AD7A-FF9B86B8C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0119-32D1-4656-9C54-38B9A75A5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971880" y="890424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E9C4-B7A1-4B1B-B21B-8A6AB013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62080" y="703440"/>
            <a:ext cx="4686120" cy="35146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1280" y="4451400"/>
            <a:ext cx="5607000" cy="42177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—or the Archer Daniels Midland Company-- has been a premier agribusiness for more than 100 yea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take agricultural crops--such as corn, wheat, soybeans, canola and cocoa--and we trade, transport, store and process them into all kinds of end produc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od ingredients, feed for animals, fuel and industrial products.  We distribute these end products to customers—primarily large food and energy companies—throughout the worl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902800"/>
            <a:ext cx="303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AAA9-6084-49BA-A754-094BD131F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81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7760" y="3610440"/>
            <a:ext cx="81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776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2564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1120" y="11426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4120" y="11426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7760" y="36104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1120" y="36104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4120" y="36104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37760" y="114264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09320" y="257040"/>
            <a:ext cx="817236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3776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37760" y="114264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2564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37760" y="3610440"/>
            <a:ext cx="81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81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760" y="3610440"/>
            <a:ext cx="81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776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2564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1120" y="11426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4120" y="11426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7760" y="36104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1120" y="36104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4120" y="3610440"/>
            <a:ext cx="2631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9320" y="257040"/>
            <a:ext cx="8172360" cy="3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3776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25640" y="36104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776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5640" y="1142640"/>
            <a:ext cx="3988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37760" y="3610440"/>
            <a:ext cx="817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7760" y="114264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868680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2755-D606-473C-83B3-66EEC0F4B81F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9"/>
          <p:cNvSpPr/>
          <p:nvPr/>
        </p:nvSpPr>
        <p:spPr>
          <a:xfrm>
            <a:off x="8686800" y="6626160"/>
            <a:ext cx="5335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6CF31-00F7-4EC9-85E4-D1631EE3F7D9}" type="slidenum">
              <a:rPr b="0" lang="en-US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320" y="257040"/>
            <a:ext cx="8172360" cy="7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37760" y="1142640"/>
            <a:ext cx="8172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spcAft>
                <a:spcPts val="104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hyperlink" Target="mailto:mario.benegas@adm.com" TargetMode="External"/><Relationship Id="rId5" Type="http://schemas.openxmlformats.org/officeDocument/2006/relationships/hyperlink" Target="http://www.adm.com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5791320"/>
            <a:ext cx="8153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grama Trainee – Naviera Cha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523880" y="472428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 algn="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c7f"/>
                </a:solidFill>
                <a:latin typeface="Arial"/>
              </a:rPr>
              <a:t>Setiembre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523880" y="44197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380880"/>
            <a:ext cx="845820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35000"/>
              </a:lnSpc>
              <a:spcBef>
                <a:spcPts val="1250"/>
              </a:spcBef>
              <a:spcAft>
                <a:spcPts val="876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85345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1" i="1" lang="es-ES" sz="1800" spc="-1" strike="noStrike">
                <a:solidFill>
                  <a:srgbClr val="000c7f"/>
                </a:solidFill>
                <a:latin typeface="Century Gothic"/>
              </a:rPr>
              <a:t>Archer Daniels Midland Company </a:t>
            </a: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fue fundada en 1902 e incorporada en 1923, ADM tiene su sede central en Decatur, Illinois, y opera plantas de procesamiento y fabricación en todo los Estados Unidos y en el mundo entero. A través de nuestras plantas y de nuestras extensas capacidades de distribución global, ADM contribuye en gran medida a la economía y a la calidad de vida mundi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c7f"/>
                </a:solidFill>
                <a:latin typeface="Century Gothic"/>
              </a:rPr>
              <a:t>Cada década desde sus inicios empresariales </a:t>
            </a:r>
            <a:r>
              <a:rPr b="1" i="1" lang="es-MX" sz="1800" spc="-1" strike="noStrike">
                <a:solidFill>
                  <a:srgbClr val="000c7f"/>
                </a:solidFill>
                <a:latin typeface="Century Gothic"/>
              </a:rPr>
              <a:t>ADM </a:t>
            </a:r>
            <a:r>
              <a:rPr b="0" lang="es-MX" sz="1800" spc="-1" strike="noStrike">
                <a:solidFill>
                  <a:srgbClr val="000c7f"/>
                </a:solidFill>
                <a:latin typeface="Century Gothic"/>
              </a:rPr>
              <a:t>ha añadido grandes beneficios a la agroindustria: la molienda, el procesamiento, ingredientes de alimentos, el cacao, la nutrición y m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c7f"/>
                </a:solidFill>
                <a:latin typeface="Arial"/>
                <a:ea typeface="ＭＳ Ｐゴシック"/>
              </a:rPr>
              <a:t>	</a:t>
            </a:r>
            <a:r>
              <a:rPr b="1" i="1" lang="es-ES" sz="2000" spc="-1" strike="noStrike">
                <a:solidFill>
                  <a:srgbClr val="000c7f"/>
                </a:solidFill>
                <a:latin typeface="Arial"/>
                <a:ea typeface="ＭＳ Ｐゴシック"/>
              </a:rPr>
              <a:t>Misión de ADM: Liberar el potencial de la </a:t>
            </a:r>
            <a:r>
              <a:rPr b="1" i="1" lang="es-ES" sz="2000" spc="-1" strike="noStrike">
                <a:solidFill>
                  <a:srgbClr val="000c7f"/>
                </a:solidFill>
                <a:latin typeface="Arial"/>
                <a:ea typeface="ＭＳ Ｐゴシック"/>
              </a:rPr>
              <a:t>	</a:t>
            </a:r>
            <a:r>
              <a:rPr b="1" i="1" lang="es-ES" sz="2000" spc="-1" strike="noStrike">
                <a:solidFill>
                  <a:srgbClr val="000c7f"/>
                </a:solidFill>
                <a:latin typeface="Arial"/>
                <a:ea typeface="ＭＳ Ｐゴシック"/>
              </a:rPr>
              <a:t>	</a:t>
            </a:r>
            <a:r>
              <a:rPr b="1" i="1" lang="es-ES" sz="2000" spc="-1" strike="noStrike">
                <a:solidFill>
                  <a:srgbClr val="000c7f"/>
                </a:solidFill>
                <a:latin typeface="Arial"/>
                <a:ea typeface="ＭＳ Ｐゴシック"/>
              </a:rPr>
              <a:t>naturaleza para mejorar la calidad de v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c7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0"/>
          <a:ext cx="8839440" cy="1523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0"/>
                    <a:ext cx="88394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76440" y="4476600"/>
            <a:ext cx="1685880" cy="142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52280" y="4680"/>
          <a:ext cx="8839440" cy="151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4680"/>
                    <a:ext cx="883944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164304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1" i="1" lang="es-ES" sz="1800" spc="-1" strike="noStrike">
                <a:solidFill>
                  <a:srgbClr val="000c7f"/>
                </a:solidFill>
                <a:latin typeface="Century Gothic"/>
              </a:rPr>
              <a:t>ADM</a:t>
            </a: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 es en la actualidad uno de los procesadores agrícolas más grandes del mundo y líder en el mercado de Bioenergía. Como eslabón vital entre los granjeros y los consumidores, obtenemos las cosechas y las procesamos para producir ingredientes de alimentos, ingredientes de alimentos animales, combustibles renovables y alternativas naturales para químicos industri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Con una red de transporte en todo el mundo, 28.000 empleados, 230 plantas procesadoras, 330 oficinas en más de 60 países en los 6 continentes, </a:t>
            </a:r>
            <a:r>
              <a:rPr b="1" i="1" lang="es-ES" sz="1800" spc="-1" strike="noStrike">
                <a:solidFill>
                  <a:srgbClr val="000c7f"/>
                </a:solidFill>
                <a:latin typeface="Century Gothic"/>
              </a:rPr>
              <a:t>ADM </a:t>
            </a: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sigue creando alianzas con los agricultores para crear mercados para sus productos en todo 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0" lang="es-MX" sz="1800" spc="-1" strike="noStrike">
                <a:solidFill>
                  <a:srgbClr val="000c7f"/>
                </a:solidFill>
                <a:latin typeface="Century Gothic"/>
              </a:rPr>
              <a:t>La ventas netas de ADM al cierre del año fiscal 2009, al 30 de Junio alcanzaron la suma de </a:t>
            </a:r>
            <a:r>
              <a:rPr b="1" i="1" lang="es-MX" sz="1800" spc="-1" strike="noStrike">
                <a:solidFill>
                  <a:srgbClr val="000c7f"/>
                </a:solidFill>
                <a:latin typeface="Century Gothic"/>
              </a:rPr>
              <a:t>US$ 69 billones</a:t>
            </a:r>
            <a:r>
              <a:rPr b="0" lang="es-MX" sz="1800" spc="-1" strike="noStrike">
                <a:solidFill>
                  <a:srgbClr val="000c7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95280" y="763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c7f"/>
                </a:solidFill>
                <a:latin typeface="Tahoma"/>
              </a:rPr>
              <a:t>ADM EN PARA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36360" y="457200"/>
            <a:ext cx="532908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0000"/>
          </a:bodyPr>
          <a:p>
            <a:pPr marL="190800" indent="1008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El Grupo ADM Paraguay componen las siguientes empre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4400" indent="-21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66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ADM Paraguay S.A.E.C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4400" indent="-21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c7f"/>
                </a:solidFill>
                <a:latin typeface="Tahoma"/>
              </a:rPr>
              <a:t>	</a:t>
            </a:r>
            <a:r>
              <a:rPr b="1" lang="es-MX" sz="1200" spc="-1" strike="noStrike">
                <a:solidFill>
                  <a:srgbClr val="000c7f"/>
                </a:solidFill>
                <a:latin typeface="Tahoma"/>
              </a:rPr>
              <a:t>Acopia, financia y asesora la producción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4400" indent="-21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66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Naviera Chaco S.R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4400" indent="-21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c7f"/>
                </a:solidFill>
                <a:latin typeface="Tahoma"/>
              </a:rPr>
              <a:t>	</a:t>
            </a:r>
            <a:r>
              <a:rPr b="1" lang="es-MX" sz="1200" spc="-1" strike="noStrike">
                <a:solidFill>
                  <a:srgbClr val="000c7f"/>
                </a:solidFill>
                <a:latin typeface="Tahoma"/>
              </a:rPr>
              <a:t>Transporte Fluv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74400" indent="-2160"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66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La Estrella  S.R.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74400" indent="-21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c7f"/>
                </a:solidFill>
                <a:latin typeface="Tahoma"/>
              </a:rPr>
              <a:t>	</a:t>
            </a:r>
            <a:r>
              <a:rPr b="1" lang="es-MX" sz="1200" spc="-1" strike="noStrike">
                <a:solidFill>
                  <a:srgbClr val="000c7f"/>
                </a:solidFill>
                <a:latin typeface="Tahoma"/>
              </a:rPr>
              <a:t>Transporte Terres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238640" cy="1676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9280" y="2590920"/>
            <a:ext cx="518472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c7f"/>
                </a:solidFill>
                <a:latin typeface="Tahoma"/>
              </a:rPr>
              <a:t>Adquiere más del 30% de la producción de soja del Paragu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c7f"/>
                </a:solidFill>
                <a:latin typeface="Tahoma"/>
              </a:rPr>
              <a:t>Comercializa el 30% de Fertilizantes dentro el Paragua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c7f"/>
                </a:solidFill>
                <a:latin typeface="Tahoma"/>
              </a:rPr>
              <a:t>Comercializa el 8% de otros insumos para la agroindust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c7f"/>
                </a:solidFill>
                <a:latin typeface="Tahoma"/>
              </a:rPr>
              <a:t>Cuenta con más de 600 empleados perman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c7f"/>
                </a:solidFill>
                <a:latin typeface="Tahoma"/>
              </a:rPr>
              <a:t>Emplea cerca de 350 empleados temporarios para cada zaf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c7f"/>
                </a:solidFill>
                <a:latin typeface="Tahoma"/>
              </a:rPr>
              <a:t>Y crea más de 1.500 puestos indirectos, a través de sus contrati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520" y="3395520"/>
            <a:ext cx="3352680" cy="21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7632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c7f"/>
                </a:solidFill>
                <a:latin typeface="Tahoma"/>
              </a:rPr>
              <a:t>ADM EN PARA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33520"/>
            <a:ext cx="86868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8480"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1" i="1" lang="es-ES" sz="1800" spc="-1" strike="noStrike">
                <a:solidFill>
                  <a:srgbClr val="000c7f"/>
                </a:solidFill>
                <a:latin typeface="Century Gothic"/>
              </a:rPr>
              <a:t>ADM</a:t>
            </a:r>
            <a:r>
              <a:rPr b="0" lang="es-ES" sz="1800" spc="-1" strike="noStrike">
                <a:solidFill>
                  <a:srgbClr val="000c7f"/>
                </a:solidFill>
                <a:latin typeface="Century Gothic"/>
              </a:rPr>
              <a:t> se constituye actualmente en un motor esencial de la economía paraguaya con un impacto económico directo e indirecto muy importante, al mismo tiempo de ser considerado un líder en Responsabilidad Social Empresarial y una referencia indiscutida en Seguridad Ocupacional que llega inclusive a las comunidades donde se halla asent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8480"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776680"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c7f"/>
                </a:solidFill>
                <a:latin typeface="Century Gothic"/>
                <a:ea typeface="ＭＳ Ｐゴシック"/>
              </a:rPr>
              <a:t> </a:t>
            </a:r>
            <a:r>
              <a:rPr b="0" lang="es-MX" sz="1800" spc="-1" strike="noStrike">
                <a:solidFill>
                  <a:srgbClr val="000c7f"/>
                </a:solidFill>
                <a:latin typeface="Century Gothic"/>
                <a:ea typeface="ＭＳ Ｐゴシック"/>
              </a:rPr>
              <a:t>Es propietaria de 32 silos, 9 remolcadores, 152 barcazas, 1 puerto propio; distribuidos en diferentes comunidades del interior donde tiene un altísimo impacto en la formalización de la economía y el empl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8480"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2776680"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c7f"/>
                </a:solidFill>
                <a:latin typeface="Century Gothic"/>
                <a:ea typeface="ＭＳ Ｐゴシック"/>
              </a:rPr>
              <a:t> </a:t>
            </a:r>
            <a:r>
              <a:rPr b="0" lang="es-MX" sz="1800" spc="-1" strike="noStrike">
                <a:solidFill>
                  <a:srgbClr val="000c7f"/>
                </a:solidFill>
                <a:latin typeface="Century Gothic"/>
                <a:ea typeface="ＭＳ Ｐゴシック"/>
              </a:rPr>
              <a:t>Empleadora de más de 700 paraguayos y sus familias: con ingresos salariales y beneficios que buscan garantizar un nivel de vida en consonancia con su aporte 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2280" y="3105000"/>
            <a:ext cx="2667240" cy="2152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52280" y="709560"/>
            <a:ext cx="2286000" cy="171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1716120"/>
            <a:ext cx="883944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ADM ofrece un mundo de oportunidades. Somos una compañía global que usa los más recientes avances tecnológicos para desbloquear el potencial de la naturale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Comprometemos recursos substanciales para el desarrollo de la capacidad intelectual y la creatividad de nuestros empleados. Cuando usted elige trabajar para ADM, elige trabajar para una compañía agrícola líder que provee ingredientes de alimentos a todo el mundo - una compañía que crea fuentes de combustible alternativo y renovable que ayudan a proteger al medio ambiente y una compañía que alimenta a una población creciente y crea productos que promueven una mejor salu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c7f"/>
                </a:solidFill>
                <a:latin typeface="Tahoma"/>
              </a:rPr>
              <a:t>Buscamos activamente postulantes dedicados y experimentados para compartir nuestra visión global y para que nos ayuden a cumplir el desafío de alimentar al mun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Our Careers"/>
          <p:cNvPicPr/>
          <p:nvPr/>
        </p:nvPicPr>
        <p:blipFill>
          <a:blip r:embed="rId2"/>
          <a:stretch/>
        </p:blipFill>
        <p:spPr>
          <a:xfrm>
            <a:off x="0" y="0"/>
            <a:ext cx="9144000" cy="1390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76320" y="3049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NAVIERA CH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TRAI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336680"/>
            <a:ext cx="89917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c7f"/>
                </a:solidFill>
                <a:latin typeface="Century Gothic"/>
              </a:rPr>
              <a:t>Queremos invitarte a participar del Programa de Trainees desarrollado para nuestra división de transporte fluvial </a:t>
            </a:r>
            <a:r>
              <a:rPr b="1" i="1" lang="es-ES" sz="1600" spc="-1" strike="noStrike">
                <a:solidFill>
                  <a:srgbClr val="000c7f"/>
                </a:solidFill>
                <a:latin typeface="Century Gothic"/>
              </a:rPr>
              <a:t>NAVIERA CHACO</a:t>
            </a:r>
            <a:r>
              <a:rPr b="0" lang="es-ES" sz="1600" spc="-1" strike="noStrike">
                <a:solidFill>
                  <a:srgbClr val="000c7f"/>
                </a:solidFill>
                <a:latin typeface="Century Gothic"/>
              </a:rPr>
              <a:t> una empresa del grupo </a:t>
            </a:r>
            <a:r>
              <a:rPr b="1" i="1" lang="es-ES" sz="1600" spc="-1" strike="noStrike">
                <a:solidFill>
                  <a:srgbClr val="000c7f"/>
                </a:solidFill>
                <a:latin typeface="Century Gothic"/>
              </a:rPr>
              <a:t>ADM</a:t>
            </a:r>
            <a:r>
              <a:rPr b="0" lang="es-ES" sz="1600" spc="-1" strike="noStrike">
                <a:solidFill>
                  <a:srgbClr val="000c7f"/>
                </a:solidFill>
                <a:latin typeface="Century Gothic"/>
              </a:rPr>
              <a:t> en Paragu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Este programa fue desarrollado considerando el constante crecimiento de este sector de negocios y la apuesta de </a:t>
            </a:r>
            <a:r>
              <a:rPr b="1" i="1" lang="es-MX" sz="1600" spc="-1" strike="noStrike">
                <a:solidFill>
                  <a:srgbClr val="000c7f"/>
                </a:solidFill>
                <a:latin typeface="Century Gothic"/>
              </a:rPr>
              <a:t>ADM</a:t>
            </a: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 en el sector naviero, que busca aumentar sustancialmente sus operaciones de transporte fluvial en Paragu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c7f"/>
                </a:solidFill>
                <a:latin typeface="Century Gothic"/>
              </a:rPr>
              <a:t>Estamos buscando jóvenes talentos con las siguientes característic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Estudiantes de últimos años o egresados de carreras Técnicas (Ingeniería Electromecánica, Industrial, Electrónica), Ambientalistas (Ingeniería Ambiental, Forestal y en Ecología Humana), Administrativas, Comerciales y Jurídic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Preferentemente con buen manejo del idioma inglés, portugués y guaraní (deseabl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Con actitud proactiva, flexibles, dinámicos, planificadores y con capacidad de relaciona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c7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 </a:t>
            </a: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Con disponibilidad de tiempo completo y disposición para viajes al interior y exterior del paí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9144000" cy="122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6320" y="30492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NAVIERA CHA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ffffff"/>
                </a:solidFill>
                <a:latin typeface="Tahoma"/>
              </a:rPr>
              <a:t>TRAIN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88960"/>
            <a:ext cx="8991720" cy="40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Te invitamos a unirte a una compañía de clase mundial, que te brinda oportunidades de desarrollo en un ambiente desafiante, con posibilidad de crecimiento profesional y de toma de decisiones, esta es tu oportunidad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c7f"/>
                </a:solidFill>
                <a:latin typeface="Century Gothic"/>
              </a:rPr>
              <a:t>Si estás interesado en ser parte de este desafío, envíanos tu curriculum vitae 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Century Gothic"/>
                <a:hlinkClick r:id="rId4"/>
              </a:rPr>
              <a:t>mario.benegas@ad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c7f"/>
                </a:solidFill>
                <a:latin typeface="Century Gothic"/>
              </a:rPr>
              <a:t>Tenes tiempo hasta el viernes 09 de Octubre del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c7f"/>
                </a:solidFill>
                <a:latin typeface="Century Gothic"/>
              </a:rPr>
              <a:t>Si quieres conocer más acerca de ADM y sus operaciones a nivel global te invitamos a conocer nuestra página web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Century Gothic"/>
                <a:hlinkClick r:id="rId5"/>
              </a:rPr>
              <a:t>www.adm.com</a:t>
            </a:r>
            <a:r>
              <a:rPr b="1" lang="es-MX" sz="2400" spc="-1" strike="noStrike">
                <a:solidFill>
                  <a:srgbClr val="000c7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eting and Design Team </dc:creator>
  <dc:description/>
  <dc:language>en-US</dc:language>
  <cp:lastModifiedBy>i903738</cp:lastModifiedBy>
  <dcterms:modified xsi:type="dcterms:W3CDTF">2009-09-30T18:56:36Z</dcterms:modified>
  <cp:revision>239</cp:revision>
  <dc:subject/>
  <dc:title>ADM Corporate Template - Concept 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8730429</vt:r8>
  </property>
  <property fmtid="{D5CDD505-2E9C-101B-9397-08002B2CF9AE}" pid="3" name="_AuthorEmail">
    <vt:lpwstr>Mario.Benegas@adm.com</vt:lpwstr>
  </property>
  <property fmtid="{D5CDD505-2E9C-101B-9397-08002B2CF9AE}" pid="4" name="_AuthorEmailDisplayName">
    <vt:lpwstr>Benegas, Mario</vt:lpwstr>
  </property>
  <property fmtid="{D5CDD505-2E9C-101B-9397-08002B2CF9AE}" pid="5" name="_EmailSubject">
    <vt:lpwstr>Programa Trainee</vt:lpwstr>
  </property>
  <property fmtid="{D5CDD505-2E9C-101B-9397-08002B2CF9AE}" pid="6" name="_NewReviewCycle">
    <vt:lpwstr/>
  </property>
</Properties>
</file>